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355B-1B2B-45EC-B6FA-60E7D1613D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A887-6E28-456D-930A-E8FDEA82C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2AA9-E63B-4463-BBC0-A713070115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5AD-ABDB-4684-941A-7C79F7884D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5BB-1C0D-46C6-8619-A2D18E75CF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F92E-A503-4E12-A7B2-FF7EA72E9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5EC1-8380-4799-A6F2-5410FB27DC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8D5-09F9-4914-B64D-BB683BC185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F46D-4A88-4AC9-80C0-C83544877D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9A4-8BC9-4838-8B3C-F5BB885D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654-BC2C-4ABE-806D-A34A0532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FC2-ABA6-4282-9B7D-A19371C8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D8E-C848-4CA9-9A23-3CBB4372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6979-72DC-4AFF-87EF-43D01BF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AE6A-82A4-49CB-8814-30FFB901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344-B50B-4C52-9D47-1AD5DFE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019-DF32-428F-9AF8-B42901E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7F2B-4149-4347-AE97-AB4090F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9C1-3CD1-4E6B-AC53-A86F566C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0575-9940-4986-B1AC-BD5208C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D7E-AB1E-4D84-955C-0A29740F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392E-A33F-4760-A140-CB0EFD3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5A8F-C2AF-4D0E-8F7F-8589A98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6FA2-84FE-469C-B1DC-F87BF65D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9E85-D4C2-47D6-9924-E82AB05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113A-1282-4771-B06C-8E4CCC76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8D0-DF4C-4A0D-B676-2A2056F9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AFF-CF2A-4421-9E0F-A5697708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61E-F2F6-49C6-9F83-C886178D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BE5-1340-4FC8-8A95-637312BA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C75-BA6D-4F4F-80FA-B37AD2B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18B-B745-4718-88D3-2ABD2D26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57B-6A25-4AAE-97AD-514D6F0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6586-05D2-4651-A14A-1920BDD661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BA88-A04C-45FC-9628-D611C6F301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6973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У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7035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9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7188120" cy="1500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6"/>
          <p:cNvSpPr/>
          <p:nvPr/>
        </p:nvSpPr>
        <p:spPr>
          <a:xfrm flipH="1">
            <a:off x="271476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 flipH="1">
            <a:off x="349992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 flipH="1">
            <a:off x="357192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0"/>
          <p:cNvSpPr/>
          <p:nvPr/>
        </p:nvSpPr>
        <p:spPr>
          <a:xfrm flipH="1">
            <a:off x="36428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6"/>
          <p:cNvSpPr/>
          <p:nvPr/>
        </p:nvSpPr>
        <p:spPr>
          <a:xfrm>
            <a:off x="4143240" y="2857680"/>
            <a:ext cx="857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8"/>
          <p:cNvSpPr/>
          <p:nvPr/>
        </p:nvSpPr>
        <p:spPr>
          <a:xfrm>
            <a:off x="3857760" y="328608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0"/>
          <p:cNvSpPr/>
          <p:nvPr/>
        </p:nvSpPr>
        <p:spPr>
          <a:xfrm>
            <a:off x="3857040" y="350028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82"/>
          <p:cNvSpPr/>
          <p:nvPr/>
        </p:nvSpPr>
        <p:spPr>
          <a:xfrm>
            <a:off x="3857760" y="364320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4"/>
          <p:cNvSpPr/>
          <p:nvPr/>
        </p:nvSpPr>
        <p:spPr>
          <a:xfrm>
            <a:off x="4643280" y="292896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6"/>
          <p:cNvSpPr/>
          <p:nvPr/>
        </p:nvSpPr>
        <p:spPr>
          <a:xfrm>
            <a:off x="44283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94"/>
          <p:cNvSpPr/>
          <p:nvPr/>
        </p:nvSpPr>
        <p:spPr>
          <a:xfrm>
            <a:off x="5143680" y="292896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96"/>
          <p:cNvSpPr/>
          <p:nvPr/>
        </p:nvSpPr>
        <p:spPr>
          <a:xfrm>
            <a:off x="5143680" y="307188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8"/>
          <p:cNvSpPr/>
          <p:nvPr/>
        </p:nvSpPr>
        <p:spPr>
          <a:xfrm>
            <a:off x="5143680" y="321480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0"/>
          <p:cNvSpPr/>
          <p:nvPr/>
        </p:nvSpPr>
        <p:spPr>
          <a:xfrm>
            <a:off x="5143680" y="3357720"/>
            <a:ext cx="12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02"/>
          <p:cNvSpPr/>
          <p:nvPr/>
        </p:nvSpPr>
        <p:spPr>
          <a:xfrm>
            <a:off x="521496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521496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514368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8"/>
          <p:cNvSpPr/>
          <p:nvPr/>
        </p:nvSpPr>
        <p:spPr>
          <a:xfrm>
            <a:off x="514368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4"/>
          <p:cNvSpPr/>
          <p:nvPr/>
        </p:nvSpPr>
        <p:spPr>
          <a:xfrm flipH="1">
            <a:off x="6071760" y="278604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6"/>
          <p:cNvSpPr/>
          <p:nvPr/>
        </p:nvSpPr>
        <p:spPr>
          <a:xfrm flipH="1">
            <a:off x="621504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8"/>
          <p:cNvSpPr/>
          <p:nvPr/>
        </p:nvSpPr>
        <p:spPr>
          <a:xfrm>
            <a:off x="5322240" y="278604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7"/>
          <p:cNvSpPr/>
          <p:nvPr/>
        </p:nvSpPr>
        <p:spPr>
          <a:xfrm flipV="1">
            <a:off x="550080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5"/>
          <p:cNvSpPr/>
          <p:nvPr/>
        </p:nvSpPr>
        <p:spPr>
          <a:xfrm>
            <a:off x="6643800" y="300024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7"/>
          <p:cNvSpPr/>
          <p:nvPr/>
        </p:nvSpPr>
        <p:spPr>
          <a:xfrm>
            <a:off x="6643800" y="314316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9"/>
          <p:cNvSpPr/>
          <p:nvPr/>
        </p:nvSpPr>
        <p:spPr>
          <a:xfrm>
            <a:off x="6643800" y="328608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51"/>
          <p:cNvSpPr/>
          <p:nvPr/>
        </p:nvSpPr>
        <p:spPr>
          <a:xfrm>
            <a:off x="6643800" y="342900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53"/>
          <p:cNvSpPr/>
          <p:nvPr/>
        </p:nvSpPr>
        <p:spPr>
          <a:xfrm>
            <a:off x="6643800" y="357192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5"/>
          <p:cNvSpPr/>
          <p:nvPr/>
        </p:nvSpPr>
        <p:spPr>
          <a:xfrm>
            <a:off x="657216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7"/>
          <p:cNvSpPr/>
          <p:nvPr/>
        </p:nvSpPr>
        <p:spPr>
          <a:xfrm>
            <a:off x="657216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9"/>
          <p:cNvSpPr/>
          <p:nvPr/>
        </p:nvSpPr>
        <p:spPr>
          <a:xfrm>
            <a:off x="657216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61"/>
          <p:cNvSpPr/>
          <p:nvPr/>
        </p:nvSpPr>
        <p:spPr>
          <a:xfrm>
            <a:off x="657216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85960" y="2500200"/>
            <a:ext cx="7299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только букву У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643040" y="2428920"/>
            <a:ext cx="7286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12d1c"/>
                </a:solidFill>
                <a:latin typeface="Times New Roman"/>
              </a:rPr>
              <a:t>Добавь недостающий элемент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7175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Раскрась листок с буквой У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76520" y="2143080"/>
            <a:ext cx="7269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7169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5:31:23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